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B777-026B-4E83-A88E-FDEC0B6C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B353-32F6-412F-AC15-CE5CD4B9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D22E-782A-4BB5-BA21-4082A8917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066F-12FD-4172-AF2E-75388DA30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F2EC-3352-4662-A0F6-C3845C6E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4239-87B9-4441-94EA-4F22983A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4901-AC56-4DE6-ACF3-75C81489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D815-655C-46FD-85EA-0E3101BD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1841-C19A-4836-8B6E-F0435439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1FC6-94EF-435D-93EB-61B58165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626C-9BEC-4330-AD7C-16D648F7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94E3-CB32-49BE-944F-899613F2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9DF8-1961-4D50-BC50-831B0CFF7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19440"/>
            <a:ext cx="9143280" cy="6815520"/>
            <a:chOff x="0" y="19440"/>
            <a:chExt cx="9143280" cy="6815520"/>
          </a:xfrm>
        </p:grpSpPr>
        <p:sp>
          <p:nvSpPr>
            <p:cNvPr id="42" name="_s2070"/>
            <p:cNvSpPr/>
            <p:nvPr/>
          </p:nvSpPr>
          <p:spPr>
            <a:xfrm flipH="1" flipV="1">
              <a:off x="2957040" y="2222280"/>
              <a:ext cx="808560" cy="60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2069"/>
            <p:cNvSpPr/>
            <p:nvPr/>
          </p:nvSpPr>
          <p:spPr>
            <a:xfrm>
              <a:off x="1001880" y="767160"/>
              <a:ext cx="2286360" cy="17042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xican food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ile en nog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ink- Aqu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es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2068"/>
            <p:cNvSpPr/>
            <p:nvPr/>
          </p:nvSpPr>
          <p:spPr>
            <a:xfrm flipH="1">
              <a:off x="2288520" y="3425760"/>
              <a:ext cx="114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2067"/>
            <p:cNvSpPr/>
            <p:nvPr/>
          </p:nvSpPr>
          <p:spPr>
            <a:xfrm>
              <a:off x="0" y="2576520"/>
              <a:ext cx="2285640" cy="1704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ncing-Mexica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at d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d flamencoL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nza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l ven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66"/>
            <p:cNvSpPr/>
            <p:nvPr/>
          </p:nvSpPr>
          <p:spPr>
            <a:xfrm flipH="1">
              <a:off x="2957040" y="4026600"/>
              <a:ext cx="808560" cy="60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2065"/>
            <p:cNvSpPr/>
            <p:nvPr/>
          </p:nvSpPr>
          <p:spPr>
            <a:xfrm>
              <a:off x="1005480" y="4383000"/>
              <a:ext cx="2285640" cy="1704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t- Mexica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lk art, Music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riachi, soun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f drum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yan aztec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2064"/>
            <p:cNvSpPr/>
            <p:nvPr/>
          </p:nvSpPr>
          <p:spPr>
            <a:xfrm>
              <a:off x="4571280" y="4275720"/>
              <a:ext cx="0" cy="85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2063"/>
            <p:cNvSpPr/>
            <p:nvPr/>
          </p:nvSpPr>
          <p:spPr>
            <a:xfrm>
              <a:off x="3431520" y="5130720"/>
              <a:ext cx="2286360" cy="1704240"/>
            </a:xfrm>
            <a:prstGeom prst="ellipse">
              <a:avLst/>
            </a:prstGeom>
            <a:solidFill>
              <a:srgbClr val="4603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omen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kirt, huipi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leeveles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unic, quechquémitl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close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houl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2062"/>
            <p:cNvSpPr/>
            <p:nvPr/>
          </p:nvSpPr>
          <p:spPr>
            <a:xfrm>
              <a:off x="5376960" y="4026600"/>
              <a:ext cx="808560" cy="60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2061"/>
            <p:cNvSpPr/>
            <p:nvPr/>
          </p:nvSpPr>
          <p:spPr>
            <a:xfrm>
              <a:off x="5854320" y="4380480"/>
              <a:ext cx="2286360" cy="1704240"/>
            </a:xfrm>
            <a:prstGeom prst="ellipse">
              <a:avLst/>
            </a:prstGeom>
            <a:solidFill>
              <a:srgbClr val="ec46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bozo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ind of shawl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at-sombrer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2058"/>
            <p:cNvSpPr/>
            <p:nvPr/>
          </p:nvSpPr>
          <p:spPr>
            <a:xfrm>
              <a:off x="5711040" y="3425760"/>
              <a:ext cx="114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2057"/>
            <p:cNvSpPr/>
            <p:nvPr/>
          </p:nvSpPr>
          <p:spPr>
            <a:xfrm>
              <a:off x="6856920" y="2573640"/>
              <a:ext cx="2286360" cy="1704240"/>
            </a:xfrm>
            <a:prstGeom prst="ellipse">
              <a:avLst/>
            </a:prstGeom>
            <a:solidFill>
              <a:srgbClr val="49f9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languag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Spanish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2056"/>
            <p:cNvSpPr/>
            <p:nvPr/>
          </p:nvSpPr>
          <p:spPr>
            <a:xfrm flipV="1">
              <a:off x="5376960" y="2222280"/>
              <a:ext cx="808560" cy="60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2055"/>
            <p:cNvSpPr/>
            <p:nvPr/>
          </p:nvSpPr>
          <p:spPr>
            <a:xfrm>
              <a:off x="5851440" y="767160"/>
              <a:ext cx="2285640" cy="1704240"/>
            </a:xfrm>
            <a:prstGeom prst="ellipse">
              <a:avLst/>
            </a:prstGeom>
            <a:solidFill>
              <a:srgbClr val="ee1e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religion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xico i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ma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tholi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2060"/>
            <p:cNvSpPr/>
            <p:nvPr/>
          </p:nvSpPr>
          <p:spPr>
            <a:xfrm flipV="1">
              <a:off x="4571280" y="1724040"/>
              <a:ext cx="0" cy="85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2059"/>
            <p:cNvSpPr/>
            <p:nvPr/>
          </p:nvSpPr>
          <p:spPr>
            <a:xfrm>
              <a:off x="3428280" y="19440"/>
              <a:ext cx="2285640" cy="1704240"/>
            </a:xfrm>
            <a:prstGeom prst="ellipse">
              <a:avLst/>
            </a:prstGeom>
            <a:solidFill>
              <a:srgbClr val="e0f85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n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ousers, shirt,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uropean-like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arape, an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xican bo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2054"/>
            <p:cNvSpPr/>
            <p:nvPr/>
          </p:nvSpPr>
          <p:spPr>
            <a:xfrm>
              <a:off x="3428280" y="2576520"/>
              <a:ext cx="2285640" cy="1704240"/>
            </a:xfrm>
            <a:prstGeom prst="ellipse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ltur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f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x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1:49:12Z</dcterms:created>
  <dc:creator>teacher</dc:creator>
  <dc:description/>
  <dc:language>en-US</dc:language>
  <cp:lastModifiedBy>teacher</cp:lastModifiedBy>
  <dcterms:modified xsi:type="dcterms:W3CDTF">2010-05-07T15:31:34Z</dcterms:modified>
  <cp:revision>6</cp:revision>
  <dc:subject/>
  <dc:title>Slide 1</dc:title>
</cp:coreProperties>
</file>